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03733"/>
        <c:axId val="92921172"/>
      </c:barChart>
      <c:catAx>
        <c:axId val="47103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21172"/>
        <c:crosses val="autoZero"/>
        <c:auto val="1"/>
        <c:lblAlgn val="ctr"/>
        <c:lblOffset val="100"/>
        <c:noMultiLvlLbl val="0"/>
      </c:catAx>
      <c:valAx>
        <c:axId val="92921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03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1C7-8982-4C7C-86F3-CF22645F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7EB-BD66-4EBB-9C0F-C25D840E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53BA-AD1E-4FAE-AA97-1CBBDB2C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F19-0C68-429B-80DB-E598A95F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4CF-6308-474B-A455-AB2BB703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597-9FBE-48DB-B48B-01770CC3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6B0-ACA4-4C2B-A7C7-79BC40D8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CB2-0B97-437A-A689-961AD3D0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C9F-950E-44B7-93EF-FC17BB7C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995E-7D14-4E65-9037-E7373848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C68-3977-48BA-B815-00E68CD6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62C-D109-47F0-BD26-B2F59C6F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7B9B1-72CB-4A72-94CA-B26DB79A93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