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79696"/>
        <c:axId val="29132299"/>
      </c:barChart>
      <c:catAx>
        <c:axId val="48579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2299"/>
        <c:crosses val="autoZero"/>
        <c:auto val="1"/>
        <c:lblAlgn val="ctr"/>
        <c:lblOffset val="100"/>
        <c:noMultiLvlLbl val="0"/>
      </c:catAx>
      <c:valAx>
        <c:axId val="29132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9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571-7143-40EC-80CA-CC1C17E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4D7-E35F-4F3F-B551-F7D9E86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A54-D54C-42B1-97B6-BD0B3C39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C6B-B243-4C09-841E-9EF8670F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A56-5165-4672-82D2-44DE84B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0EF-0299-4FC9-A650-7B93CED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6C8-36BB-4177-9C2E-4BD4669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35B-B3B7-4B3F-AACD-82CFB19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D26-A7BF-488A-B4D3-B9B1FB6B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474-BDE2-48D2-A496-BC796D9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C20-23AB-4006-9DD4-C13B536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B70-AF01-447A-99B0-EEF1AEF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F57DE-4EDC-4616-B022-4BCDD8BD7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