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865834"/>
        <c:axId val="50706985"/>
      </c:barChart>
      <c:catAx>
        <c:axId val="798658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06985"/>
        <c:crosses val="autoZero"/>
        <c:auto val="1"/>
        <c:lblAlgn val="ctr"/>
        <c:lblOffset val="100"/>
        <c:noMultiLvlLbl val="0"/>
      </c:catAx>
      <c:valAx>
        <c:axId val="50706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658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DCE-C806-4EDA-AA71-74B2A8A2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DD9-20A6-4B3B-BF88-091B0D56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9D0-1B17-40EF-8323-BFC193A0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67A-BADD-4702-A931-A5D3CAD0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C9C-964A-4EAF-9FE7-79A164D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A5B-1991-47CB-B993-85FF873F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AB9C-3D18-42B6-9236-840696C7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6AE-B4D3-4A0C-9AC1-A456E08B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CC6-1E15-40EA-B12E-53AE59D4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5EBF-B634-4648-8A65-A9059390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62E-371A-4CC2-A0E9-37E69A99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D42-BFB9-470B-A9F6-01CE6DCF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DBB9A-C292-4A9B-8298-C21BF721F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