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61018"/>
        <c:axId val="61802390"/>
      </c:barChart>
      <c:catAx>
        <c:axId val="20061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02390"/>
        <c:crosses val="autoZero"/>
        <c:auto val="1"/>
        <c:lblAlgn val="ctr"/>
        <c:lblOffset val="100"/>
        <c:noMultiLvlLbl val="0"/>
      </c:catAx>
      <c:valAx>
        <c:axId val="61802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1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696-64CC-4733-BDFA-9D41D955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168-5069-4AE7-8978-9FB5D5E1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DD2-57AF-4092-AF21-82D10921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5E9-1A22-4269-8BD1-6B3C7ED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D4E-981D-4138-92B4-743E1E6F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FFB-4A69-49AA-AB9B-4200B624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8F0-5AB3-44C3-A76C-BE46D2A3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EE4-A364-4A7D-9135-245D897C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BC2-4DBB-4D12-BA11-A4DC2B04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565-C141-4E1F-8052-445AB0CD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45D-DF2A-4BEE-A127-322D489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414-40BB-4256-B620-BED08AE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DF2B9-A452-4F00-94B3-ED04238E1B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