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80354"/>
        <c:axId val="59249390"/>
      </c:barChart>
      <c:catAx>
        <c:axId val="58480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49390"/>
        <c:crosses val="autoZero"/>
        <c:auto val="1"/>
        <c:lblAlgn val="ctr"/>
        <c:lblOffset val="100"/>
        <c:noMultiLvlLbl val="0"/>
      </c:catAx>
      <c:valAx>
        <c:axId val="59249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80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2DB-532A-4856-B79C-5A9FBB23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FA1-8ACE-4BFF-8CEC-827B2CB3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D59-DE66-4C27-BD37-146FBE38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EF4-0444-4ECD-BFB8-0ADEBB93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080-B12D-41A4-861A-4FF10D65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3A3-69DB-4FBE-9988-32C21E8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916-AF6F-4470-9B1C-68CFF130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2A7-3E68-40CF-83E3-25247A64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D7E-B5CD-4C2D-AF61-133338B5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273-9FEF-4AB1-BB5F-2E3B6A3D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05E-50FC-44F6-9CB4-B6647C3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4FF-BB36-4F7B-8E9C-F35F6599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56140-557A-4DD5-8A8C-290F466DE0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