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6423"/>
        <c:axId val="49000981"/>
      </c:barChart>
      <c:catAx>
        <c:axId val="8166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0981"/>
        <c:crosses val="autoZero"/>
        <c:auto val="1"/>
        <c:lblAlgn val="ctr"/>
        <c:lblOffset val="100"/>
        <c:noMultiLvlLbl val="0"/>
      </c:catAx>
      <c:valAx>
        <c:axId val="49000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6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FAB-930B-42F4-8DF0-363F03C3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A73-9CE6-42D0-B017-D4E619AF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661-1582-4695-ADA4-263D02A9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5FD-CF4F-4CC0-9CC0-4B3DFEA68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4C9-2D8C-4936-95D6-C0CA540F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9C7D-8F26-4BE3-B009-E0DF5BB5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2C5-31C5-481A-A080-AE432BC1D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B7BD-1D61-4FEB-B74B-6DCAED39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2F1-42B2-4180-B153-EC4FD91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5BCF-C3BE-4AF4-8EFA-5D6E4EE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AC6-39CC-4694-A22A-7BDB5B4C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32A3-CEE3-4833-880F-79A5B987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F4D174-483C-4C6A-8CAF-CD987D11E8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