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274416"/>
        <c:axId val="42983322"/>
      </c:barChart>
      <c:catAx>
        <c:axId val="862744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83322"/>
        <c:crosses val="autoZero"/>
        <c:auto val="1"/>
        <c:lblAlgn val="ctr"/>
        <c:lblOffset val="100"/>
        <c:noMultiLvlLbl val="0"/>
      </c:catAx>
      <c:valAx>
        <c:axId val="429833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744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896B-D95B-45E2-B915-7ACD519EE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C417-C30E-47D6-AE5E-D3AAB350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ACD3-4385-4CDB-95D6-1E68DFB4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CF2C-7A25-43F2-9F39-CAF0CD979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50BE-2F87-4881-A57B-2839B97A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BB23-B79F-4D9A-9A68-99F8147B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D0C0-1BCF-47BC-9EEA-EB0ACFCD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84F5-28B2-423B-A0AD-F723FD89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652E-AB9A-46D2-BC22-C51531ED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1740-97D0-4443-9917-767257EB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F63E-AB92-45EA-8EB5-373A03A1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23E6-AA8F-4B66-A262-51DA0554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7281C-5D6A-48FC-98E4-7F19C30313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