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13903"/>
        <c:axId val="81905462"/>
      </c:barChart>
      <c:catAx>
        <c:axId val="17713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05462"/>
        <c:crosses val="autoZero"/>
        <c:auto val="1"/>
        <c:lblAlgn val="ctr"/>
        <c:lblOffset val="100"/>
        <c:noMultiLvlLbl val="0"/>
      </c:catAx>
      <c:valAx>
        <c:axId val="81905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13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844-A94F-437D-85FD-EC65EBFC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CC8F-98FC-4ED1-A3F4-578BBE77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68A-AAF2-4046-9395-13BF62B5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3CB-9D11-49D8-86FF-E742139D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EFC-EE63-433A-84D6-BDBD5CF9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EC9-8581-473A-8E5A-6C615DB8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17E-B729-4730-8308-3E0599C9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006-5C3C-42EC-A9EB-521F01F3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A742-A570-4078-9502-50B9599E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E1E4-D515-45BD-842A-92BEBCF3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452-72F9-47EA-B637-83327B55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729-FF8A-4F75-BE69-54D27539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089CA-10F0-4935-9A01-B6FCD0718A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