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14426"/>
        <c:axId val="3128832"/>
      </c:barChart>
      <c:catAx>
        <c:axId val="66314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8832"/>
        <c:crosses val="autoZero"/>
        <c:auto val="1"/>
        <c:lblAlgn val="ctr"/>
        <c:lblOffset val="100"/>
        <c:noMultiLvlLbl val="0"/>
      </c:catAx>
      <c:valAx>
        <c:axId val="3128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4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718-93BF-4810-844A-85326734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38B-9403-431A-8335-A0D6262B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293-D42E-4917-B560-B4261E10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D33-6F4A-4411-A7A1-E55B56DB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6D6-E49F-46E7-8A5E-38C99169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D94-697B-4B34-A2A8-0DBA5C9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92C-BFE0-4762-A03A-F70624C3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3B5-1230-43B3-B713-9BA7FF05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B71-FDF2-407D-810C-F312129A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3A4-2719-41B5-A229-2169D33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763-452B-486B-AFAF-372F5B4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4CF-D1BB-4FCE-A6C7-DE3B145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1E7E-03E9-4234-AFC5-F3796F9AB5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