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28111"/>
        <c:axId val="63667633"/>
      </c:barChart>
      <c:catAx>
        <c:axId val="33228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7633"/>
        <c:crosses val="autoZero"/>
        <c:auto val="1"/>
        <c:lblAlgn val="ctr"/>
        <c:lblOffset val="100"/>
        <c:noMultiLvlLbl val="0"/>
      </c:catAx>
      <c:valAx>
        <c:axId val="6366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28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102-D302-41AC-8C2C-77772DF4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5E-8AB6-4719-8551-8131509D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5F8-87FA-4262-978D-0F4A5AF9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4ED-03F9-4422-926F-D339D5F7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2EE-4F8A-4D3A-B6D3-999D37C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91E-99BE-4397-A05B-F8352632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6B9-47D7-4651-BB26-A11EBD17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7A6-0BC2-4D50-9273-FC8C9D0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36C-85B4-4113-A0D2-3FBB58C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71A-BD48-49F0-BC61-E683ACB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EE1-A045-4FEE-B23A-2CFDBDC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73D-16D0-4BFE-8222-925FDC0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14874-825D-4F45-BC31-A2E037FFA8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