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01421"/>
        <c:axId val="57097322"/>
      </c:barChart>
      <c:catAx>
        <c:axId val="92801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97322"/>
        <c:crosses val="autoZero"/>
        <c:auto val="1"/>
        <c:lblAlgn val="ctr"/>
        <c:lblOffset val="100"/>
        <c:noMultiLvlLbl val="0"/>
      </c:catAx>
      <c:valAx>
        <c:axId val="57097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01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CEA-04B7-4F4B-9E11-30C2D697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0DE-443B-4D36-9291-36E8A844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0A5-7807-4BAA-8C0E-2CD1ABFA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63B-7269-44BE-8E6F-227573E3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78C-3519-4DC2-957E-66CD4044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F53-D3C8-4573-9B42-AD7EAA97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868-E640-4034-B5C1-61035680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953-2B22-434A-AEDE-7443A3A8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072-80C1-44AE-9CA9-E28BCF9B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5A9-CDCC-4978-A2D6-F5F285F3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705-DFEA-40C0-A1EB-74A6BE75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6D3-5D07-4175-89DB-4260C333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EDF62-07D9-40CE-9A66-CAB57AABD2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