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42916"/>
        <c:axId val="94723499"/>
      </c:barChart>
      <c:catAx>
        <c:axId val="97942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3499"/>
        <c:crosses val="autoZero"/>
        <c:auto val="1"/>
        <c:lblAlgn val="ctr"/>
        <c:lblOffset val="100"/>
        <c:noMultiLvlLbl val="0"/>
      </c:catAx>
      <c:valAx>
        <c:axId val="94723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42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056-250B-4766-9F57-DB99CB38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0AC-C90B-4F48-BCEF-6A864750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DAD-9016-466E-B257-75F5D4DA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A80-60BB-4BE4-A13E-10CE8F20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810-82B6-4F17-A9CD-EAB2485B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F88-C084-4419-9F96-122340F6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9BC-F267-496F-89FF-3C6BF252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642-E313-4DFB-9800-8C6B8DDC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CC9-B2A6-4A5C-AF7A-F9A6E81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48E-89A6-40E9-BF8B-CFE8233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404-A8ED-473B-A021-AEF736AA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794-218F-4288-AE32-7A1C59D7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93BBD-7BDF-4726-A3FA-C27BAFE0D3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