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64949"/>
        <c:axId val="86702215"/>
      </c:barChart>
      <c:catAx>
        <c:axId val="85164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02215"/>
        <c:crosses val="autoZero"/>
        <c:auto val="1"/>
        <c:lblAlgn val="ctr"/>
        <c:lblOffset val="100"/>
        <c:noMultiLvlLbl val="0"/>
      </c:catAx>
      <c:valAx>
        <c:axId val="86702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64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ADE-B34B-45AD-B39A-7C5795BB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A89-22D8-45E9-8854-385D6468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E98-8E51-48E5-82C9-3B50623E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22D-B087-444D-89C2-6CC2012A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078-C054-4DA2-B499-EF087A3A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B79-2BC6-4A33-B944-37F2A54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EBA-3872-4A5E-9096-62BBBC6E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7CD-8828-4813-B8BB-C6A82D5A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683-5CD0-406A-BE86-7CCD8CD3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CB5-DD81-4291-9D1B-B51B7CA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C3F-FBAD-44F2-A323-0493FE4B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02E-1798-41B7-9504-066A23D0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75692-C465-47FF-BD47-31B5F5C78F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