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7641760"/>
        <c:axId val="24072976"/>
      </c:barChart>
      <c:catAx>
        <c:axId val="2764176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072976"/>
        <c:crosses val="autoZero"/>
        <c:auto val="1"/>
        <c:lblAlgn val="ctr"/>
        <c:lblOffset val="100"/>
        <c:noMultiLvlLbl val="0"/>
      </c:catAx>
      <c:valAx>
        <c:axId val="2407297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64176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D40BA-41C6-49A5-A8D0-C4E56CF33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56E7D-0978-4A7B-823F-5BCD00DB9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0BBC9-D878-4B94-A364-94FDFA140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8F91F-F8B6-4172-920D-FF3D24160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1C649-DBA5-48E5-B60B-0AE83736D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4348A-6587-45FB-9B06-EE4C1FD8F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D64EB-55BC-4B6D-AFB9-93B83452A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EF43C-A9BA-4A6F-BE9C-6FEC7568E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65D0A-C674-41DA-96A2-EDA2B7386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AA1B3-3175-4588-8FFF-BFFB6D798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40A94-099A-4AB2-9ABA-6001B87C2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949A0-6E88-4969-855E-AA3026DC1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5D2A61-2B10-4050-A76F-BAEDF294DF1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