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351951"/>
        <c:axId val="99167419"/>
      </c:barChart>
      <c:catAx>
        <c:axId val="383519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167419"/>
        <c:crosses val="autoZero"/>
        <c:auto val="1"/>
        <c:lblAlgn val="ctr"/>
        <c:lblOffset val="100"/>
        <c:noMultiLvlLbl val="0"/>
      </c:catAx>
      <c:valAx>
        <c:axId val="991674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519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AA73-FC69-4ED2-8842-C25BFCF71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3F02-E5A3-4F7D-B8E9-4643D235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0965-9BA8-4259-87E4-9DF10B5B4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68DF-7F82-4584-9B6E-05EC3E770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B103-C4DD-47B3-B311-55A1823B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6673-EB96-4BD1-9308-E7298DCC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1B88-B295-4EDC-80AE-0510A26A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234C-98FB-41DE-8659-09CE00D9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A078-4151-4DD2-B134-F316EFB6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BEC4-16EA-4D5E-AFC9-86D39FCF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D688-C6D2-4EC4-8900-37CDDA72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AE8E-68E7-4C97-A35E-D76756DE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1F5BB0-A8C9-4F85-9CAC-83DE674FCF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