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30473"/>
        <c:axId val="22083518"/>
      </c:barChart>
      <c:catAx>
        <c:axId val="34730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83518"/>
        <c:crosses val="autoZero"/>
        <c:auto val="1"/>
        <c:lblAlgn val="ctr"/>
        <c:lblOffset val="100"/>
        <c:noMultiLvlLbl val="0"/>
      </c:catAx>
      <c:valAx>
        <c:axId val="22083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30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F17-B0C2-4C23-B8C9-74F336B6B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392-28FA-49C5-96CF-E74EEC51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676-2EC8-4493-9B37-829A2F3D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EF9-69AA-4231-AE12-76FE77B3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DE4-D94A-478D-8532-A4D0B899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C15-751F-41DA-9531-567C170B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3FD-71CE-473D-8840-058172B4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648-2A1E-40CD-9702-1096C0C5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889-1ADB-4F85-8D2A-D6C08B8B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21BE-816A-4EEC-9AA6-B8DD7A65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FEE-1C59-440B-A63A-EFAF74B0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DFB2-B026-42CB-B8A2-ACA298C6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27909-CE01-438A-BB5F-7570D6E993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