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13703"/>
        <c:axId val="39187979"/>
      </c:barChart>
      <c:catAx>
        <c:axId val="713137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187979"/>
        <c:crosses val="autoZero"/>
        <c:auto val="1"/>
        <c:lblAlgn val="ctr"/>
        <c:lblOffset val="100"/>
        <c:noMultiLvlLbl val="0"/>
      </c:catAx>
      <c:valAx>
        <c:axId val="391879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137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6E5D-AA77-4510-B740-CAB7A828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F4B8-F213-4F10-832A-D24934EB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945C-C65F-49E8-A23D-529E092C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CB44-D971-4789-AD4C-59F9D0C7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B18-80C0-4AAE-89FF-71674E8C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C1F-26E4-42EF-BAE3-B6D03FCA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CC3A-953D-42CD-8D11-4E37B8AA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B2F-9741-409E-B4AA-B11A36F5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A0E-7E47-497D-885A-0ECF51BD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309-630E-4F61-8AF1-88EB2320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DDF-2D33-4C84-AB30-D15B95E5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EA6F-0B3E-4E33-8934-24E9EEE9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444786-CDEF-4E6B-9F67-F53F1D73B9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