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0385"/>
        <c:axId val="57876326"/>
      </c:barChart>
      <c:catAx>
        <c:axId val="33580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76326"/>
        <c:crosses val="autoZero"/>
        <c:auto val="1"/>
        <c:lblAlgn val="ctr"/>
        <c:lblOffset val="100"/>
        <c:noMultiLvlLbl val="0"/>
      </c:catAx>
      <c:valAx>
        <c:axId val="57876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0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655-51CF-4FBA-BF1A-C23E1AD9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CB7-370A-4725-9545-C9EAE8C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E18-AB06-414F-B5EB-3A5CF2D0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FD8-8C30-4E56-9BA9-D5D07E02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072-DCA2-46C7-964B-AED99C6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72F-825F-46C1-AD2F-17B4024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79B-78A1-42C9-ADEE-5C08F53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7A1-62F4-4845-A147-C692954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A29-838A-4BDC-BACA-08DB56F2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456-A3B7-4F7C-8A35-5039981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A61-CE7D-446B-874D-F9E18AA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EF4-8CD6-43B2-AD2D-10D7A0B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B81F1-8AF8-411C-8242-2FD2CB0AD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