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99942"/>
        <c:axId val="92004816"/>
      </c:barChart>
      <c:catAx>
        <c:axId val="95999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04816"/>
        <c:crosses val="autoZero"/>
        <c:auto val="1"/>
        <c:lblAlgn val="ctr"/>
        <c:lblOffset val="100"/>
        <c:noMultiLvlLbl val="0"/>
      </c:catAx>
      <c:valAx>
        <c:axId val="92004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99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6C6-288C-4901-B972-712CEAE3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23D-1AD1-4635-A473-CBBD15D6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3A6-FA7E-46A6-9CD7-A4B0A1F4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5DE-62CD-44C3-9592-5DC555E4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737-CB66-43AF-82D7-E9D8B5DC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D17-1571-404E-B49C-18A6CF2D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082-623E-4C47-A4F6-090D5DE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DD3-A48D-4F57-BE27-37F88EF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E7B-6F79-4CC5-9754-2518972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EDA-C2D3-4B11-894C-089150B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1C9-24CF-48B6-8F44-EEFD1B1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C90-6BB0-4FBE-8776-1C62F11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75DD4-A746-4835-B1B1-057FC2646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