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85222"/>
        <c:axId val="41406840"/>
      </c:barChart>
      <c:catAx>
        <c:axId val="21985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06840"/>
        <c:crosses val="autoZero"/>
        <c:auto val="1"/>
        <c:lblAlgn val="ctr"/>
        <c:lblOffset val="100"/>
        <c:noMultiLvlLbl val="0"/>
      </c:catAx>
      <c:valAx>
        <c:axId val="41406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85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239-B31C-40EC-956F-5E36D7CC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238-BEE8-421B-8D2B-93B90466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5BF-8014-4533-8BBB-96732F29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0A1-7548-47FF-9749-E9DA38FA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D6B-628E-4C11-908A-6B0C2090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CCF-8D1F-4988-B3A6-98B272AA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675-D8E9-40AB-8888-91FF9025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F37-67E7-41B9-A7A8-47F7FA30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9D5-DFAC-4D86-A015-F0BD35D8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E4E-34EE-40A2-B06E-FE8FAD25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BB0F-E388-454F-BDC8-D46450DC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6CC-5BBA-4015-9A4C-CC92B7BF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9DE07-F653-459F-89CF-060135DB43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