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18415"/>
        <c:axId val="57772715"/>
      </c:barChart>
      <c:catAx>
        <c:axId val="43018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72715"/>
        <c:crosses val="autoZero"/>
        <c:auto val="1"/>
        <c:lblAlgn val="ctr"/>
        <c:lblOffset val="100"/>
        <c:noMultiLvlLbl val="0"/>
      </c:catAx>
      <c:valAx>
        <c:axId val="57772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18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874-C345-4D4A-92FC-E62FD8ED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315-3F86-4640-A647-95AC1D99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66E-5D46-4BB0-84D0-65EBDAF5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DD6-3A71-45D4-9FD5-067C7D32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15C-E80A-435B-BFCC-D2B29C1F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EA4-E610-4A79-9138-E21494CD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179-B642-410C-AC8D-41F9BFF7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92D-9BA3-4CA8-9302-820A41A2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709-4096-4E73-B5B4-46BC7540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B2D-3654-4055-B179-A04195EF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617-D6BD-4E8E-BCC1-FCEEF857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E7D-8D9D-43C2-9895-534F5872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A8DFA-73CB-42B6-96C6-134D306A42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