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01017"/>
        <c:axId val="87993603"/>
      </c:barChart>
      <c:catAx>
        <c:axId val="62701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93603"/>
        <c:crosses val="autoZero"/>
        <c:auto val="1"/>
        <c:lblAlgn val="ctr"/>
        <c:lblOffset val="100"/>
        <c:noMultiLvlLbl val="0"/>
      </c:catAx>
      <c:valAx>
        <c:axId val="87993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01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6B8-1CD7-479D-9C95-4FB2A4AA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9B0-3947-4B9F-89C8-4A0DBBF9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B5C-16CB-4014-8EAD-2F3F1033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62B-4E0C-4492-A99A-A17D23AB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D6F-388A-4DBC-B63C-04A7BA66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D24-3ABF-418A-8A67-8DD4FA5B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65D-FEE8-44BB-BBBA-4054506C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783-087E-4682-A555-FF8CA66B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21F-D346-45E1-934B-FDB7B09D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3A1-F6CD-46C3-93C9-D881ADB4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F5E-F728-461A-A491-B210894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573-2D3D-417B-AD1F-900B9A5A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5BE98-7C45-4A1C-9A8D-C0BAB4A8BD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