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95130"/>
        <c:axId val="45424606"/>
      </c:barChart>
      <c:catAx>
        <c:axId val="82395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24606"/>
        <c:crosses val="autoZero"/>
        <c:auto val="1"/>
        <c:lblAlgn val="ctr"/>
        <c:lblOffset val="100"/>
        <c:noMultiLvlLbl val="0"/>
      </c:catAx>
      <c:valAx>
        <c:axId val="454246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95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3A9-65FA-448E-810A-E96B0782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72D-DCB6-485B-977F-1E846AEE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8BD-4E5C-4D88-9823-629B11FC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89CF-DC2C-4D6C-8E39-5A92D841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F602-0461-4DD9-9599-67F78227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F4A0-3BF3-445D-B053-81D25620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D4C-35C0-4E3A-A59A-62EB6DB4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B772-38C0-493E-9651-E6399868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6912-6FCE-4A14-9605-74F65B32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14A-AC5B-4E3F-840A-A3A16D01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D5F-4E7B-4A14-A0EE-423C8E05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C83-29B2-4708-9226-0864B2BC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8C70F-033F-43A7-BA03-BD994F1EFE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