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00077"/>
        <c:axId val="55822275"/>
      </c:barChart>
      <c:catAx>
        <c:axId val="92700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22275"/>
        <c:crosses val="autoZero"/>
        <c:auto val="1"/>
        <c:lblAlgn val="ctr"/>
        <c:lblOffset val="100"/>
        <c:noMultiLvlLbl val="0"/>
      </c:catAx>
      <c:valAx>
        <c:axId val="55822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00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A0A-EF5B-49A7-A127-400EC0EC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724-4E1A-4B57-869A-6B8ED998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487-2126-42A6-B39D-33171634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BE0-C856-4757-95CC-914A71F7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A15-AEEF-4A56-B861-94F12312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798-9FD8-4E9C-8E87-BE2E9FE6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46D-8DAE-4A63-88C2-75EEE6C4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064-EDE8-421F-8301-7CBC1FF2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364-8C14-4635-82CB-41E17E48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2AD-06A2-4E72-A59D-7C958874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5F9-5DE5-4F22-B180-7EAC748D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8CA-1125-4B67-A850-48FCB7DA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0BF04-269C-47B2-9B61-B6A957D01F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