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00853"/>
        <c:axId val="50573676"/>
      </c:barChart>
      <c:catAx>
        <c:axId val="66000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73676"/>
        <c:crosses val="autoZero"/>
        <c:auto val="1"/>
        <c:lblAlgn val="ctr"/>
        <c:lblOffset val="100"/>
        <c:noMultiLvlLbl val="0"/>
      </c:catAx>
      <c:valAx>
        <c:axId val="50573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00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2CF-D104-4404-B78B-7306CDE9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FE4-8DF4-43D1-B6F6-83628FBC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7F5-6638-450F-936C-7610A920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EEE-A911-4455-97A3-8C1B138C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D6B-CA04-43C6-AE53-2666CFAF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400-9248-4ABD-9406-D9FDC96B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1B8-9D09-4276-A10B-C89087F4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BF1-70A7-4F76-8767-1623F511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9EA-4FD2-418D-885B-C6F84BFD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E74-CC61-4D57-B6B0-DE2ECF1B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21B-D624-46C1-B333-FB736FD8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D9B5-E512-4248-85E4-3EF1FD56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AA735-A731-4D54-8817-9CE4EE49F6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