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15098"/>
        <c:axId val="95180279"/>
      </c:barChart>
      <c:catAx>
        <c:axId val="30515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80279"/>
        <c:crosses val="autoZero"/>
        <c:auto val="1"/>
        <c:lblAlgn val="ctr"/>
        <c:lblOffset val="100"/>
        <c:noMultiLvlLbl val="0"/>
      </c:catAx>
      <c:valAx>
        <c:axId val="95180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15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152-1107-4D22-8D8D-A0A22FEB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BED2-8205-4FEA-82EF-1170FAE3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D4-78A4-4B4F-86C6-68D14D5A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9AE-95A4-4443-8EB4-7DB82801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088B-49BF-4A0D-8790-8EC99580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EC2C-9545-48CE-B195-F687889B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BC-BEDD-4DBB-A7C3-6D90917B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4BC-1662-48D0-A323-FCE3F5E8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A4D-EF2A-4D90-9D18-C8BFA9DF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2AB-6DEC-4B91-92FA-4A21BB8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F1B-B1AA-40F4-AC2C-5E8EAC0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58-1488-4464-9A61-DFAD2999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5141B-F20D-4B96-9067-91E0D08646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