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95631"/>
        <c:axId val="40438288"/>
      </c:barChart>
      <c:catAx>
        <c:axId val="25695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38288"/>
        <c:crosses val="autoZero"/>
        <c:auto val="1"/>
        <c:lblAlgn val="ctr"/>
        <c:lblOffset val="100"/>
        <c:noMultiLvlLbl val="0"/>
      </c:catAx>
      <c:valAx>
        <c:axId val="40438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95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505-E69A-4E60-B661-C0C14FD2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C07-68AC-43D4-B7B3-BADBDAB8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7BC-5500-4BAE-8AA4-46072DDA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4B0-5780-4FE4-9943-216C3E8A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8CC-2C45-4FA0-9888-1BB6AC2E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5D7-7E67-4236-B256-0C1C4E73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210-7A3C-42A3-A488-9567D0B9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5F9-8747-4F10-82C4-669F746A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A6C-301C-408B-BB5A-AFEF187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C8B-D0AB-4F90-9375-F1C3622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80C-2071-43EC-9BBA-697E298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A5A-EB01-47B4-BC01-7253F04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E5BF-CF16-4C75-ACFB-A4613C7515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