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087180"/>
        <c:axId val="98587881"/>
      </c:barChart>
      <c:catAx>
        <c:axId val="390871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587881"/>
        <c:crosses val="autoZero"/>
        <c:auto val="1"/>
        <c:lblAlgn val="ctr"/>
        <c:lblOffset val="100"/>
        <c:noMultiLvlLbl val="0"/>
      </c:catAx>
      <c:valAx>
        <c:axId val="985878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0871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EC34-DF66-4AA0-BCF0-F5888ED0A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BEF2-93AD-4000-B24E-47554B68B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3758-151E-42BE-A982-787796693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5D4F-4E10-44E3-9A95-553F4D430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9F2A-CC7B-4FE7-97E6-428C213BE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EA2C-3554-4E59-9B9E-AE18F39A3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56E2-7460-4363-997A-86FB66098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CB6A-4444-4480-9A01-A50AEB335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CA94-FAA6-4B00-A9B6-7AFD5F440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A979-F68D-4901-84BE-4FFDCB65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4585-67C7-4591-A303-FF3828A4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511D-76F9-4958-87B2-AB9540EB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297CE0-1516-4B2D-A329-BE47889DCF7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