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42731"/>
        <c:axId val="15668325"/>
      </c:barChart>
      <c:catAx>
        <c:axId val="92942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68325"/>
        <c:crosses val="autoZero"/>
        <c:auto val="1"/>
        <c:lblAlgn val="ctr"/>
        <c:lblOffset val="100"/>
        <c:noMultiLvlLbl val="0"/>
      </c:catAx>
      <c:valAx>
        <c:axId val="15668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42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7C4-2119-4F3B-8C98-B6114CAC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CFB-D142-44FA-B154-062108EF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34A-3DE9-44E9-8FD7-0EEDED5D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4DA-017D-4816-82A2-742B2BCE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DFB-BC41-4330-9D2E-BF2E0654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D2E-59A8-4203-8C73-1DB87066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489-E646-4105-96CC-B88AEBAD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D5E-E11B-4972-8A91-D6FA4FDA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AB2-E77F-4CF0-8C2E-A938146B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487-4149-4A63-A543-8B21D6A8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A32-1784-4723-997B-50786E49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699-14B1-442B-951D-A3B3E3A7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0B2FC-025D-45B4-B245-83017B284F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