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64998"/>
        <c:axId val="39640969"/>
      </c:barChart>
      <c:catAx>
        <c:axId val="30864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40969"/>
        <c:crosses val="autoZero"/>
        <c:auto val="1"/>
        <c:lblAlgn val="ctr"/>
        <c:lblOffset val="100"/>
        <c:noMultiLvlLbl val="0"/>
      </c:catAx>
      <c:valAx>
        <c:axId val="39640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64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C14-0C75-4FCD-80F4-43B58763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6D1-6CD0-418D-8ACE-AC3D692D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1FF-3A76-4CD4-966A-CA6B76C2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711F-33B5-437C-8AFD-8D295047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5C8-DED0-4F30-936E-F87897A3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669-441C-4569-B1E3-E902B089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531A-A525-4954-BE8F-2F98AF54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5BB-619B-49BD-B4BC-731D0A49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946-D6BE-4DE0-8466-52C676C4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E5A-F062-4311-A9DF-E1F9CE08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8A2-7699-4BF3-90CC-5B9ABF7B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C83-04DD-4A45-924F-FF332661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E123C-EEC8-4ECC-B710-46BF55442A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