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3452"/>
        <c:axId val="59580806"/>
      </c:barChart>
      <c:catAx>
        <c:axId val="80234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80806"/>
        <c:crosses val="autoZero"/>
        <c:auto val="1"/>
        <c:lblAlgn val="ctr"/>
        <c:lblOffset val="100"/>
        <c:noMultiLvlLbl val="0"/>
      </c:catAx>
      <c:valAx>
        <c:axId val="59580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4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D64-9AF4-4F85-ABF0-71D6AC7A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BB6-2469-4717-883E-B063E9E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58E-E601-4724-9A69-2BC717EE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CC5-249F-40FD-8F29-AD22A112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4C0-D520-41F8-A808-FF0CB39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2D7-34FE-4655-ADC6-267AFAA4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DC3-9B7C-4482-8305-24D5E2EB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81A-09CE-4471-A7D9-DFE8874A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73A1-52AA-4FE6-8AF6-BE8093F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993-7D6E-46B6-AA14-2C86B5A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96E-FD28-402E-8439-348C58A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D61-F683-4447-A29E-CCA60EEB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518A1-505C-4E2E-841D-26828DDEFF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