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43443"/>
        <c:axId val="41369260"/>
      </c:barChart>
      <c:catAx>
        <c:axId val="94943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69260"/>
        <c:crosses val="autoZero"/>
        <c:auto val="1"/>
        <c:lblAlgn val="ctr"/>
        <c:lblOffset val="100"/>
        <c:noMultiLvlLbl val="0"/>
      </c:catAx>
      <c:valAx>
        <c:axId val="41369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3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950-9BCB-433A-A186-F02DFB2D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B18-5280-4368-8499-605839E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0B7-F31C-4796-9C58-21A8D38E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44D-15A8-4CEC-8756-1404EC0A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A3D-A5AF-4659-AB72-3DC9FA7C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93A-7C9C-467A-8BCC-814EFBB9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411-D37D-4892-91F0-1F1B92EB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E85-6CF2-493B-9F62-BD4E4E6D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F7E-6CC7-4E0C-A05A-C8617DB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C8F-99C9-4198-B7CA-B335C77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9D5-44E8-4826-B82C-0648676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A6C-0D5C-4D51-8130-5B39518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7EF98-3354-40E1-9806-DA1AB1B63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