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14400"/>
        <c:axId val="92410008"/>
      </c:barChart>
      <c:catAx>
        <c:axId val="441144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10008"/>
        <c:crosses val="autoZero"/>
        <c:auto val="1"/>
        <c:lblAlgn val="ctr"/>
        <c:lblOffset val="100"/>
        <c:noMultiLvlLbl val="0"/>
      </c:catAx>
      <c:valAx>
        <c:axId val="924100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144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E94-E1B2-40BB-A75F-B8994BD2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C38-3ABA-48B3-A2B9-285F42ED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F32B-8D8C-49AC-95FD-4049C64A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24E-D1EB-4AE5-A1AF-0187F00D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DEAE-7EE6-4F6D-9918-DD6EFEFF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5F1F-17A7-443E-8366-87793878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47FA-4C21-454D-B94F-B5972037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C0AD-559E-474A-87CB-F804C238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E37E-81B1-4D22-8BC9-BD47276B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ED0-B1B1-4A18-873E-8F2CB40C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1DA-7614-4755-911F-CC099DA8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A544-FE99-460B-99DA-5AF08795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3A740-1E5E-495A-83DC-1CB47080D8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