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94476"/>
        <c:axId val="64006950"/>
      </c:barChart>
      <c:catAx>
        <c:axId val="155944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06950"/>
        <c:crosses val="autoZero"/>
        <c:auto val="1"/>
        <c:lblAlgn val="ctr"/>
        <c:lblOffset val="100"/>
        <c:noMultiLvlLbl val="0"/>
      </c:catAx>
      <c:valAx>
        <c:axId val="64006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944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9511-6387-458C-9B68-53B94681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19A-F024-4000-A8D5-44C4E40F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73B-E5D4-4B83-97D5-9DFB6CDC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F1D1-E619-4F9F-BC98-3A040215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3825-D0B9-4E35-831F-EB52783D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8F2-31E3-4F4B-8E22-EB029FAC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647-1754-4AA2-9A63-06AE2912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BE8-1C00-4FF7-A90C-84E9337E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C2A-CAD5-4A00-A42F-FF9BA9DF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AC6D-3122-4C33-A2D1-B303EDB0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776-CF75-4821-839C-3E9D3104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256B-CCFB-422A-8D4B-6AEB139B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3166A-402C-4FD6-893F-83342FB7AB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