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74339"/>
        <c:axId val="51759437"/>
      </c:barChart>
      <c:catAx>
        <c:axId val="39274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59437"/>
        <c:crosses val="autoZero"/>
        <c:auto val="1"/>
        <c:lblAlgn val="ctr"/>
        <c:lblOffset val="100"/>
        <c:noMultiLvlLbl val="0"/>
      </c:catAx>
      <c:valAx>
        <c:axId val="51759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74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46F-5F77-4D55-8F8E-B4D3420E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E31-E2D1-4958-A849-3D20CB61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1B4-CDF2-4773-B5CD-E258B3FE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8D6-ED31-4D6F-AC8F-F1BA33CF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92A-C7A6-452F-BC7C-76FDF0A4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4B9-6469-4C6E-9364-EC4068F6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32E-602C-4170-9BD7-B983F74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E59-9851-4591-9796-2DF16E95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DF0-1041-46B6-9831-372DBCB6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172-76A1-4C2D-B483-7DAEDEA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AB5-1150-41B3-BE0E-A5364488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B3A-405E-4D0A-B301-9D6835F9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BAEBD-7135-4729-B8C4-AFFBCF6A79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